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30.png" ContentType="image/png"/>
  <Override PartName="/ppt/media/image42.png" ContentType="image/png"/>
  <Override PartName="/ppt/media/image54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228C-5B6D-4CA9-BA48-79F99A485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F024-9D36-4AD8-AB1D-0DC89F9C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63EF-3037-4E72-B8A5-53E6F3994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774E-F55F-4A99-94CE-BCF5FE740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8623-C711-4988-8A3E-09F4688A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4DAF-40FB-4AFA-BB8F-179F9E2C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45B6-5F83-48D3-8C03-2A6AB9BC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34F1-8860-4825-9623-8CD45358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A4C5-A1ED-4475-8956-D1172532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ADF9-ED0F-422F-8388-9FDBD06D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97D1-DA56-4EF3-B2EF-898AF746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5D2C-348C-48E4-8456-8212C016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8EAF-AC53-4C7A-8212-4E46872FBA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6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6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6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3200" y="1371600"/>
            <a:ext cx="5385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Hierarch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f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Population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076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315200" cy="2895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62120" y="3733920"/>
            <a:ext cx="7315200" cy="685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62120" y="4343400"/>
            <a:ext cx="73152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3124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14400" y="3809880"/>
            <a:ext cx="7315200" cy="758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914400" y="4572000"/>
            <a:ext cx="73152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2971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914400" y="3733920"/>
            <a:ext cx="7315200" cy="777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914400" y="4495680"/>
            <a:ext cx="73152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14400" y="3200400"/>
            <a:ext cx="7543800" cy="638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914400" y="380880"/>
            <a:ext cx="7543800" cy="2819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914400" y="3809880"/>
            <a:ext cx="75438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467480" cy="5105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638680" y="3886200"/>
            <a:ext cx="27432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964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9250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6197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2120" y="4038480"/>
            <a:ext cx="7619760" cy="650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62120" y="1143000"/>
            <a:ext cx="7619760" cy="2895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762120" y="4648320"/>
            <a:ext cx="7619760" cy="10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09480" y="3352680"/>
            <a:ext cx="7848720" cy="9115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09480" y="685800"/>
            <a:ext cx="7848720" cy="28195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09480" y="4267080"/>
            <a:ext cx="7848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620120" cy="838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38080" y="685800"/>
            <a:ext cx="7620120" cy="25146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838080" y="3886200"/>
            <a:ext cx="762012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696080" cy="720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62120" y="457200"/>
            <a:ext cx="7696080" cy="2438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762120" y="3505320"/>
            <a:ext cx="7696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7724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3915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391520" cy="2133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38080" y="3505320"/>
            <a:ext cx="73915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924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0" y="609480"/>
            <a:ext cx="4508640" cy="2463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76720" y="3809880"/>
            <a:ext cx="2616120" cy="2527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056960" y="3382920"/>
            <a:ext cx="66096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924680" cy="1600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62120" y="3124080"/>
            <a:ext cx="79246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792468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924680" cy="1451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62120" y="2971800"/>
            <a:ext cx="792468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7724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772400" cy="19047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62120" y="3546360"/>
            <a:ext cx="777240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960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7391520" cy="4343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971800" y="228600"/>
            <a:ext cx="335268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5438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911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6858000" cy="3962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143000" y="4114800"/>
            <a:ext cx="3429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620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5438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543800" cy="3200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38080" y="3733920"/>
            <a:ext cx="7543800" cy="26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696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1629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1T15:40:33Z</dcterms:modified>
  <cp:revision>211</cp:revision>
  <dc:subject/>
  <dc:title>Slide 1</dc:title>
</cp:coreProperties>
</file>